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AA8-0CF3-48DB-A515-BF72D358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C6A0-2B2C-4850-A201-435322BC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F77-28AF-4B23-B6D5-56FFD064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46B0-79B1-4BD4-BCAB-A8228C16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3A2-0C7B-4FCC-A4F0-511892CF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E70-CB49-44F0-B1B4-263CC272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9A0-591C-4D14-903D-ADD4CFC2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F58-FE7A-4A9F-91D6-F547CBA7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27DF-E230-4D0F-8BD6-1DDF16A6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1A6-BDB4-4291-A551-B8BA8014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E16-0687-4536-8547-416A06CA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42A-8CBC-4268-95BD-8FE77688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D0AC-4BE4-429B-9295-CFA5B7950F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05.703/&#29677;&#32423;&#24120;&#35268;&#32771;&#26680;%2010&#26376;.doc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05.703/&#26399;&#20013;&#32771;&#35797;&#30446;&#26631;.xls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341360"/>
            <a:ext cx="755964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考试习惯指导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820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将解题的辅助条件列在草稿纸上，有助于消除紧张感，以便集中注意力进入解题状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有粗心习惯者，验算时尤应注意简单的题目，因为这样的题目往往容易忽视而出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平时应养成答题时不受干扰的心态，不必要求周围绝对安静，这样可以练就在一般环境下专心答题的好习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不论是测验还是考试，结束后不要急于与人对答案，而应集中精力投入下一场考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0"/>
            <a:ext cx="571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试策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统览试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609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适度紧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295280"/>
            <a:ext cx="4800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草稿纸有序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1371600"/>
            <a:ext cx="312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看分花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81080"/>
            <a:ext cx="396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先易后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312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简明扼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743200"/>
            <a:ext cx="3809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卷面整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2743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力争不丢一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350532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小秋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1143000"/>
            <a:ext cx="74674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常规管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宿舍问题：物品摆放、无文化氛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1430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安全、纪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755640" y="914400"/>
            <a:ext cx="7848720" cy="438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我们坚信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一定能夺取南通联考辉煌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0"/>
            <a:ext cx="76960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几个时间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本周六、日进行期中考前模拟考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2~2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周周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周三进行南通联考（期中考试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日高考会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11812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问题：压力意识不够，目标不很明确，注意力发散、浮躁，吃苦精神不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609480"/>
            <a:ext cx="8534520" cy="38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做一个怎样的高三学生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明确的目标定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强烈的危机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饱满的自信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坚强的意志力（注意力、耐错力、抗干扰力、耐苦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流水线式的学习习惯，效率要高，讲究实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90720"/>
            <a:ext cx="8077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登一登，进山门，这里不需要豪言壮语，需要有战胜自我的勇气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拼一拼，过山冈，这里拒绝懒惰浮躁，需要有百折不回的信念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搏一搏，上山顶，这里排斥骄傲自满，需要有勇攀高峰的意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一定能在（高校）山顶相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219320"/>
            <a:ext cx="80769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面对挫折要勇敢，抛开忧愁，不放弃努力，就会从挫折中提炼出成功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38080"/>
            <a:ext cx="7848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一个怎样的班级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风：班风（到班要静、氛围要浓、竞争激烈、风气要正）；学风（苦、乐、高）；作风（起居有规、进出有纪、宽松有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心：心理、用心、信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力：意志力、注意力、动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竞争与希望同在；压力与动力并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9907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础过关总结工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份比较：明显下滑，相当一部分同学不重视，出现低分严重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良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及格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0"/>
            <a:ext cx="8458200" cy="54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法指导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考前——信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精神饱满进考场，轻轻松松看试卷，认认真真做题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考中——细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审视题目莫紧张，看清要求莫浮躁，写全过程莫跳跃，仔细检查莫遗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础题不大意，拿足分；中等题不麻痹，拿稳分；偏难题不急躁，拿本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考后——恒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考后不去想，准备下一场；考分虽是宝，提升更重要；考好莫骄傲，有人比我好；考差莫泄气，下次再努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养成良好的考试习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2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考试成绩与考试习惯之间有着密切联系，养成良好的考试习惯，就应该要求自己把平时的每次答题都当作正式考试来认真对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拿到试卷后应先把全卷浏览一遍，并大致估算一下完成每一部分试题需花的时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试题的设置往往由易到难，所以应从头开始答题，这样有利于保持良好的解题心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遇到难题时切忌“卡壳”，可跳过难题先做其它题目，等全卷完成后再答难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2:28:3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4:29:42Z</dcterms:modified>
  <cp:revision>23</cp:revision>
  <dc:subject>主题班会课件(分28大类): http://shop62905894.taobao.com</dc:subject>
  <dc:title>主题班会课件(分28大类): http://shop62905894.taobao.com</dc:title>
</cp:coreProperties>
</file>